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D5D7-2640-43E8-AEBD-771CCB517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0EFB-B94D-4B2F-BE5B-0AAD1934E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CD3-2D73-4F1C-9076-22EB933E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DBA-1EC1-41E5-B22B-5B36069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C59-3619-4C06-AAA4-00AFF3F9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5BF-69E8-4019-85CB-1A98ABB9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16B2-E610-4361-A2CA-DD5AAD27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04B7-53EA-47DF-830D-240AEFA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EBBC-F14C-4201-8E0A-31A8099E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BA7-6126-489B-A830-B9ED8CC9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7B9A-40AC-4245-8A1B-3970D13E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926A-10A7-429E-AD7C-319D4328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A474-324E-4412-9C44-D1308F4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BFB-88B2-44F3-A049-375F638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F6CC-4F98-417D-904D-70ACB57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3527-1F71-482A-8455-706B5729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685E-2E3A-4B51-8CE6-F5A84275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CB5A-BED1-4654-AED7-A5FAE614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CA61-7751-484A-9FFD-1C2D0BC8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32306-4A2C-4EB1-ACB8-DE485A93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7818B-B6DF-4869-939B-84E2C7E4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29A35-21BD-46DB-BA26-AEF6BA7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2AB68-617D-4601-843E-D566D9FB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94290-15FC-416A-8E39-BE0ED43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AA8-99F4-454A-ACB9-2B7B3594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2B28F-A1BB-4762-A2CD-07BC90AB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7EB43-300D-44E0-8C52-B2AE9FC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5505C-7321-441B-9AD9-3E89A30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EDBF1-BFA0-4035-827D-2EBBC9C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363FF-B316-49F5-8181-4EC74D48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2BA10-415E-47B1-B79A-66964427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3499F-61B7-4804-9C13-6143EB5A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5151-A19F-4A7A-8D1C-F1154B6B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BF72-FBC6-4BEA-B37B-5E3DA031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E9C6-CC9A-4836-A901-43388EA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C4D-BA1C-4BC8-BF48-B0AB327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EAE3-AEED-4DA2-A99B-66E07A00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6462-DBFC-4967-8CAE-EDAD47E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DF7D-87B0-4565-8465-A711AD59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12D9-40B2-49F5-9356-93A38CE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CDAD-0A74-4F34-9F1D-B90689A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6E2D-CCBC-413E-AD8A-4DC9923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1F1C-784A-43CA-8FC2-4E51DA3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327B-B30A-4E37-8FCB-0C87553E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B4DD-DB35-43BF-873F-D21823D5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C874D-2036-4D92-B706-4C705965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145-B1B0-42D6-A97A-EB6BB845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5DFEF-0671-40D9-948C-F9D56FA0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966D0-DABF-407C-8B52-20C7D84E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AC00B-DF83-4017-9E0E-68D9A60B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8F4C2-8095-45E8-BB0E-9383B45F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387C4-D90C-4E19-A1AF-CE867C58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129DA-F801-486B-A6F0-C0C8974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8B14C-CE9A-4200-85B8-78EB9BD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BBADD-4967-4D68-A0D4-5D863F7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FC494-64F7-497C-8011-A6979B6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B85F7-810A-4BEB-8993-4DBE417B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355-92B8-4925-81D8-4D149F83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0B1E4-B6BA-4E54-B7BD-AD97EAB3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D2D40-3F31-4EB5-B619-9FDC9879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11958-C232-4049-922E-50C9843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026B8-9798-4845-AD0E-A4F6CB16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81635-4240-4C97-9876-DA7E4D85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60293-4324-48D7-BE09-CA211CC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3ADF4-A0C2-4F5C-AA42-32AE0035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6B9F1-A7A3-48CD-BAB8-7E3CFC6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55376-225E-43DC-86A3-0415C38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67853-D08F-497F-8A9F-F529D21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1F8-10CD-48ED-A168-32D5776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E3C51-C565-4D0E-8A3E-44A3EAAC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0684E-178F-4FB3-82D3-98B98A8B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CA048-1BB8-4A48-9126-56C026BC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45CBE-B5EA-4788-9E62-FD847270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AB5DF-AC4D-40A1-A12C-03BD3F63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6C22E-B5C1-4461-AE96-F418BFDE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640F0-7EAA-41AF-970C-A3B1CF5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EEBF0-68C7-45B6-926B-47F7EF0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D3CE9-2EC8-44AD-B69F-A2A4DAEA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69307-038D-4D74-B111-2443C32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8AF-9ECE-47A3-8984-B501DF5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D5091-AEF1-43BE-8940-C122B88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AEB5E-C3F6-41FB-B8DA-8DE2BA6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2809B-7435-464C-981D-35B9CD19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02394-6CD2-4729-AF44-FB56BECD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EA3FA-6E4D-4798-A9FE-147D3BAF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E64-9301-4726-A8BB-888A801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BD4-2FC8-4C91-AA0C-959B939487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1EAB-C681-4E4C-B130-77F554BF53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EA9-BFB3-47C2-9D86-5B9C6055F7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9BAE-018F-4490-9A9E-D25B38B7B4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7ED-66A6-4312-9A8B-4AE60C3149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682D-497C-4FC8-91CA-024CFD8407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E820-24AF-424B-8B83-40553BCE46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முன்பருவ</a:t>
            </a:r>
            <a:r>
              <a:rPr b="1" lang="en-IN" sz="3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த்</a:t>
            </a:r>
            <a:r>
              <a:rPr b="1" lang="ta-IN" sz="3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தொழிற்கல்வி திட்டம் மற்றும் பள்ளிகளில் தொழிற்கல்வி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35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உடல் உழைப்பு மற்றும் உற்பத்தி சார்ந்த வேலைகளைத் தேர்வில் இணைக்க வேண்டும் என்று மகாத்மா காந்தியடிகள்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1937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லியுறுத்தினார்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ார்தா கல்விக்கொள்கை சார்பாக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938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ஆம் ஆண்டு மத்திய கல்வி ஆலோசனைக்குழு ஸ்ரீ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B. G.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ேர் தலைமையில் உருவாக்கப்பட்டது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 (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காத்மா காந்தியின் நயி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ாலீம்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யிதாலீம் முறையினை அனைத்து மாகாண அரசுகளிலும் நடைமுறைப்படுத்துமாறு பரிந்துரைக்கப்பட்டது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ஜாகிர்ஹீசேன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ுழு மகாத்மாகாந்தியின் கல்வி சார்பான கருத்துகளுக்கு செயல்வடிவம் கொடுத்தது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1938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ல் தேசிய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்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கல்விமுறை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Pattern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ூலம் ஆதாரக் கல்விமுறை தொடக்கக் கல்வியில் நடைமுறைப்படுத்தப்பட்டது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இடைநிலை</a:t>
            </a:r>
            <a:r>
              <a:rPr b="0" lang="en-IN" sz="30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க்</a:t>
            </a:r>
            <a:r>
              <a:rPr b="0" lang="ta-IN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கல்விக் குழு</a:t>
            </a:r>
            <a:r>
              <a:rPr b="0" lang="en-US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(1952 -53)</a:t>
            </a:r>
            <a:r>
              <a:rPr b="0" lang="en-US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,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831680"/>
            <a:ext cx="79246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இடைநிலை மற்றும் ஆசிரியப் பயிற்சிக்கு முக்கியத்துவம் கொடுத்ததுடன் இடைநிலை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்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கல்வியைப் பிரித்து பொதுக்கல்வி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/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கல்வி என செயல்படுத்துமாறு பரிந்துரைத்தது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இதன் விளைவாகப் பல்நோக்குப் பள்ளிகள் உருவாகின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457951"/>
                </a:solidFill>
                <a:latin typeface="Arial Unicode MS"/>
                <a:cs typeface="Arial Unicode MS"/>
              </a:rPr>
              <a:t>மேல்நிலைக்கல்வி மற்றும் தொழில்மயமாதல் </a:t>
            </a:r>
            <a:br>
              <a:rPr sz="2800"/>
            </a:br>
            <a:endParaRPr b="0" lang="en-US" sz="28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58480" indent="-245520" algn="just">
              <a:lnSpc>
                <a:spcPct val="15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ற்பிரிவு தேர்ந்தெடுப்பதின் தேவையைக் கருத்தில் கொண்ட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ெகிழ்வுத் தன்மையுடன் செயல்பட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ற்கல்வி வாய்ப்பிற்கேற்ப திறன் தேவையைக் கண்டறி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8480" indent="-245520" algn="just">
              <a:lnSpc>
                <a:spcPct val="15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ாவட்டத்திற்குத் தேவையான மனிதவளத்தையோ அல்லது மாவட்ட தொகுப்பின் தேவையை அறிய  பொருளாதாரச் செயல்பாடுகளின் மூலம் கள ஆய்வ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ேற்கொள்ள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8480" indent="-245520" algn="just">
              <a:lnSpc>
                <a:spcPct val="15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ேலைவாய்ப்பைப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ெற வழிகாட்டி நெறிப்படுத்துதல்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7621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“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ற்கல்வி என்பது வேறுபட்ட பிரிவுகளைக் கண்டறிந்து பல செயல்பாடுகளின் மூலம் மாணவர்களை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ேலைக்கு தயார்படுத்துவது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”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என்பதாகும்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ிறன் என்பது ஒரு செயல்பாடு அல்லது வேலைவாய்ப்பைப் பெறுவதற்குப் பயிற்சி மூலம் பெறும் திறமையாகும்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ந்திய அரசால்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“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ிறன் இந்தியா மிஷன்” என்ற அமைப்பு நிறுவப்பட்டத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045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ிறன் மேம்பாட்டுக்கான ஒருங்கிணைந்த உத்திகளை உருவாக்குவதற்கும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ாநிலத்தில் இளைஞர்களின் வேலைவாய்ப்பை மேம்படுத்துவதற்கும் பல்வேறு மாநிலங்களால் மாநில திறன் மேம்பாட்டுக் கழகம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SDM) 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உருவாக்கப்பட்ட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2009 –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ஆம் ஆண்டில் நிறுவப்பட்ட தேசிய திறன் மேம்பாட்டுக் கழகம் தலைமையிலான பொது தனியார் கூட்டாண்மை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PPP)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ாதிரி மூலம்  கொள்கை திட்டமிட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உள்கட்டமைப்பு மேம்பாட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ேசிய தொழிற் தரங்களின் வளர்ச்சி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யிற்சி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திப்பீடு மற்றும் சான்றிதழ் ஆகியவற்றில் திறன் மேம்பாட்டு நடவடிக்கைகளை மேற்கொள்கிற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160" y="45684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2012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ஆம் ஆண்டி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MHRD)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னிதவள மேம்பாட்டு அமைச்சகத்தால் தேசிய தொழிற்கல்வி தகுதி கட்டமைப்ப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NVEQF)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டங்கப்பட்டு உருவாக்கப்பட்ட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	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ற்றல் விளைவுகளின் நிலைகள் வரிசையாக ஒழுங்கமைப்பட்டுள்ளன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தி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0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ிலைகள் ஏறு வரிசையில் அமைக்கப்பட்டுள்ளன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ிலைகள் கற்றலின் சிக்கலைப் பொறுத்த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685800" y="685800"/>
            <a:ext cx="7620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ிக குறைவான சிக்கல் மற்றும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0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ிகவும் சிக்கலானது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து தரம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NSQF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ிலை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தல்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NSQF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ிலை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5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ட்டயப்படிப்பு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வரை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NSQF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ிலைகள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6-10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ரை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) 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ல்லூரி மற்றும் பல்கலைக்கழகங்களில் கற்றுக் கொள்வர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NSQF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ன் ஒவ்வொரு நிலைகளும் பின்வரும் களங்களில் கற்றல் விளைவுகளின் அறிக்கையாக விவரிக்கப்படுகிறது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அவையாவன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(i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செயல்முறை தேவை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(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ii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ல் முறை அறிவு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(iii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ல் முறை திறன்கள்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(iv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க்கிய திறன்கள் மற்றும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v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ொறுப்பு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கோத்தாரி கல்விக் கொள்கை அறிக்கை</a:t>
            </a:r>
            <a:r>
              <a:rPr b="0" lang="en-US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</a:t>
            </a:r>
            <a:r>
              <a:rPr b="0" lang="en-US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(1964-66)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7772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5600" indent="-43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 அனுபவ திட்டத்தின் மூலம் கற்போர் ஒவ்வொருவரும் ஒவ்வொரு வேலையின் முதன்மைத்துவம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5600" indent="-43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ன்னம்பிக்கையின் மதிப்புகள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ஒத்துழைத்தல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5600" indent="-43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விடாமுயற்சி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உதவுதல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5600" indent="-43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 நெறிமுறைகள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அணுகுமுறைகள்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5600" indent="-43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திப்புகள் தொடர்பான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முதாயத்திற்கு உதவக்கூடிய பயனுள்ள செயல்களைக் கற்றுக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ொள்வார்கள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457951"/>
                </a:solidFill>
                <a:latin typeface="Arial Unicode MS"/>
                <a:ea typeface="Arial Unicode MS"/>
              </a:rPr>
              <a:t>.  “</a:t>
            </a:r>
            <a:r>
              <a:rPr b="0" lang="ta-IN" sz="3000" spc="-1" strike="noStrike">
                <a:solidFill>
                  <a:srgbClr val="457951"/>
                </a:solidFill>
                <a:latin typeface="Arial Unicode MS"/>
                <a:cs typeface="Arial Unicode MS"/>
              </a:rPr>
              <a:t>முன் பருவ தொழிற்கல்வி வழிகாட்டு நெறிமுறைகள்</a:t>
            </a:r>
            <a:r>
              <a:rPr b="0" lang="en-US" sz="3000" spc="-1" strike="noStrike">
                <a:solidFill>
                  <a:srgbClr val="457951"/>
                </a:solidFill>
                <a:latin typeface="Arial Unicode MS"/>
                <a:ea typeface="Arial Unicode MS"/>
              </a:rPr>
              <a:t>”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ணி அனுபவத்திற்குப் பதிலாக முன் பருவத் தொழிற்கல்வியை வழங்குதல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ஒவ்வொரு வாரத்துக்கும் ஆறு பாடவேளைகள் ஒதுக்குதல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ஒவ்வொருவரும் முன் பருவத் தொழிற்கல்வி சார்ந்த தொழிற்சார் திறன்களை பெறச் செய்தல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ணி அனுபவத்தை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திப்பீடு செய்வது போல் முன் பருவத் தொழிற்கல்வியையும் மதிப்பீடு செய்தல்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IX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ற்றும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X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து வகுப்புகளுக்குத் தொழிற்சார் திறன்களை மதிப்பீடு செய்து தரம்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Grade)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ழங்குதல்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த்தாம் வகுப்பு மாணவர்களுக்குத் தங்களின் இறுதிச் சான்றிதழில் தொழிற்கல்விக்கான தரத்தைப் பதிவு செய்தல் போன்றவை வலியுறுத்தப்பட்டுள்ள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மத்திய இடைநிலை கல்வி வாரியம்</a:t>
            </a:r>
            <a:r>
              <a:rPr b="0" lang="en-IN" sz="22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(CBSE) </a:t>
            </a:r>
            <a:r>
              <a:rPr b="0" lang="ta-IN" sz="22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முன் பருவத் தொழிற்கல்வியை</a:t>
            </a:r>
            <a:r>
              <a:rPr b="0" lang="en-IN" sz="22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1995- 96 </a:t>
            </a:r>
            <a:r>
              <a:rPr b="0" lang="ta-IN" sz="22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ஆம் ஆண்டு</a:t>
            </a:r>
            <a:r>
              <a:rPr b="0" lang="en-IN" sz="22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</a:t>
            </a:r>
            <a:r>
              <a:rPr b="0" lang="ta-IN" sz="22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நடைமுறைப்படுத்தியது</a:t>
            </a:r>
            <a:endParaRPr b="0" lang="en-US" sz="2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29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IX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ற்றும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XI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ஆம் வகுப்பு மாணவர்களுக்கு எளிய திறன்சார் மேம்பாட்டுப் பயிற்சிகள் வழங்குதல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29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சார் ஆர்வம் மற்றும் நாட்டம் மூலம் தன்னைச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ுய ஆய்வுசெய்து தொழிற்சார் திறனைத் தெரிவு செய்தல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29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ேல்நிலைக் கல்வியில் தொழிற்சார் படிப்புகளைத் தெரிவு செய்ய மாணவர்களுக்கு உதவி செய்தல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29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வேலை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்பாடு சார்ந்த ஆரோக்கியமான விழுமியங்களைக் கற்பித்தல்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706b8"/>
                </a:solidFill>
                <a:latin typeface="Century Schoolbook"/>
              </a:rPr>
              <a:t> </a:t>
            </a:r>
            <a:r>
              <a:rPr b="0" lang="ta-IN" sz="36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ோக்கங்கள்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80880" y="1523880"/>
          <a:ext cx="8001000" cy="48769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9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42880" indent="-357120" algn="just">
                        <a:lnSpc>
                          <a:spcPct val="15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இந்தியாவில்</a:t>
                      </a:r>
                      <a:r>
                        <a:rPr b="1" lang="en-IN" sz="2200" spc="-1" strike="noStrike">
                          <a:solidFill>
                            <a:srgbClr val="9900cc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உள்ள தொழிற்சார் கல்வியின் வரலாற்றினைப் புரிந்து கொள்ளுதல்</a:t>
                      </a:r>
                      <a:r>
                        <a:rPr b="1" lang="en-IN" sz="2200" spc="-1" strike="noStrike">
                          <a:solidFill>
                            <a:srgbClr val="9900cc"/>
                          </a:solidFill>
                          <a:latin typeface="Arial Unicode MS"/>
                          <a:ea typeface="Arial Unicode MS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just">
                        <a:lnSpc>
                          <a:spcPct val="10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just">
                        <a:lnSpc>
                          <a:spcPct val="10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200" spc="-1" strike="noStrike">
                          <a:solidFill>
                            <a:srgbClr val="9900cc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திறன் வளர்ச்சியில் இந்தியாவில் நடைமுறையில் உள்ள முக்கிய அம்சங்களை விவரித்தல்</a:t>
                      </a:r>
                      <a:r>
                        <a:rPr b="1" lang="en-IN" sz="2200" spc="-1" strike="noStrike">
                          <a:solidFill>
                            <a:srgbClr val="9900cc"/>
                          </a:solidFill>
                          <a:latin typeface="Arial Unicode MS"/>
                          <a:ea typeface="Arial Unicode MS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just">
                        <a:lnSpc>
                          <a:spcPct val="10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just">
                        <a:lnSpc>
                          <a:spcPct val="10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வேலை அனுபவம் மற்றும் முன்பருவத் தொழிற்கல்வி செயல்பாடுகளின் நோக்கங்களை</a:t>
                      </a:r>
                      <a:r>
                        <a:rPr b="1" lang="en-US" sz="2200" spc="-1" strike="noStrike">
                          <a:solidFill>
                            <a:srgbClr val="9900cc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விவரித்தல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just">
                        <a:lnSpc>
                          <a:spcPct val="10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just">
                        <a:lnSpc>
                          <a:spcPct val="100000"/>
                        </a:lnSpc>
                        <a:buClr>
                          <a:srgbClr val="99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சமக்ர சிக்க்ஷா திட்டத்தினை</a:t>
                      </a:r>
                      <a:r>
                        <a:rPr b="1" lang="en-US" sz="2200" spc="-1" strike="noStrike">
                          <a:solidFill>
                            <a:srgbClr val="9900cc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ta-IN" sz="2200" spc="-1" strike="noStrike">
                          <a:solidFill>
                            <a:srgbClr val="9900cc"/>
                          </a:solidFill>
                          <a:latin typeface="Arial Unicode MS"/>
                          <a:cs typeface="Arial Unicode MS"/>
                        </a:rPr>
                        <a:t>விவரித்தல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2880" indent="-35712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 u="sng">
                          <a:solidFill>
                            <a:srgbClr val="ffffff"/>
                          </a:solidFill>
                          <a:uFillTx/>
                          <a:latin typeface="Century Schoolbook"/>
                        </a:rPr>
                        <a:t>சமக்ர</a:t>
                      </a:r>
                      <a:r>
                        <a:rPr b="1" lang="ta-IN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சிக்க்ஷா திட்டத்தின் கீழ் கல்வியைத் தொழிற் மயமாக்குதலை விவரித்தால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3352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1978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ஆம் ஆண்டு மால்காம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 S.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ஆதிசேஷய்யா தலைமையிலான குழு பன்னிரண்டாம் வகுப்பு தொழிற்கல்விக்கான பாடத் திட்ட வடிவமைப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ொழி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15%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ொத்த பாட வேளைகளி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ொது அடித்தளப் படிப்ப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15%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ொத்த பாடவேளைகளி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ல் ரீதியாகத் தேர்ந்தெடுக்கப்பட்ட பாடம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70 %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ொத்த பாட வேளைகளி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)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ஆகிய பாடங்களுக்க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தன்மை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யளிக்க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வலியுறுத்தப்பட்டுள்ள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457951"/>
                </a:solidFill>
                <a:latin typeface="Arial Unicode MS"/>
                <a:cs typeface="Arial Unicode MS"/>
              </a:rPr>
              <a:t>தேசிய திறன் தகுதி கட்டமைப்பு</a:t>
            </a:r>
            <a:r>
              <a:rPr b="0" lang="en-IN" sz="2400" spc="-1" strike="noStrike">
                <a:solidFill>
                  <a:srgbClr val="457951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457951"/>
                </a:solidFill>
                <a:latin typeface="Arial Unicode MS"/>
                <a:ea typeface="Arial Unicode MS"/>
              </a:rPr>
              <a:t>(NATIONAL SKILL QUALIFICATION FR</a:t>
            </a:r>
            <a:r>
              <a:rPr b="0" lang="en-US" sz="2400" spc="-1" strike="noStrike">
                <a:solidFill>
                  <a:srgbClr val="457951"/>
                </a:solidFill>
                <a:latin typeface="Arial Unicode MS"/>
                <a:ea typeface="Arial Unicode MS"/>
              </a:rPr>
              <a:t>A</a:t>
            </a:r>
            <a:r>
              <a:rPr b="0" lang="en-IN" sz="2400" spc="-1" strike="noStrike">
                <a:solidFill>
                  <a:srgbClr val="457951"/>
                </a:solidFill>
                <a:latin typeface="Arial Unicode MS"/>
                <a:ea typeface="Arial Unicode MS"/>
              </a:rPr>
              <a:t>ME WORK)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ொது மற்றும் தொழிற்சார் கல்வியை ஒருங்கிணைத்தல்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சமுதாய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ொருளாதாரத் தேவைகளைக் கருத்தில் கொண்டு திறன் சார்ந்த பாடங்களை வழங்குதல்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ெகிழ்வான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ாடத்திட்ட வடிவமைப்பை உருவாக்கி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ிறன் சார்ந்த வேலை வாய்ப்பு அளிக்கக்கூடிய பாடப்பொருளை உருவாக்க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ிறமை வாய்ந்த ஆசிரியர்கள் மற்றும் ஆசிரியப் பயிற்றுநர்களை உருவாக்க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ிறன் சார்ந்த கற்றலை மதிப்பிட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ர உத்தரவாதம்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58920" y="24703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5b6f"/>
                </a:solidFill>
                <a:latin typeface="Century Schoolboo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ta-IN" sz="2600" spc="-1" strike="noStrike">
                <a:solidFill>
                  <a:srgbClr val="4e5b6f"/>
                </a:solidFill>
                <a:latin typeface="Century Schoolbook"/>
                <a:ea typeface="Latha"/>
              </a:rPr>
              <a:t>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ta-IN" sz="2400" spc="-1" strike="noStrike">
                <a:solidFill>
                  <a:srgbClr val="4e5b6f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ta-IN" sz="2400" spc="-1" strike="noStrike">
                <a:solidFill>
                  <a:srgbClr val="4e5b6f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ta-IN" sz="2400" spc="-1" strike="noStrike">
                <a:solidFill>
                  <a:srgbClr val="5fa326"/>
                </a:solidFill>
                <a:latin typeface="Arial Unicode MS"/>
                <a:cs typeface="Arial Unicode MS"/>
              </a:rPr>
              <a:t>ஒருங்கிணைந்த பள்ளிக் கல்வித் திட்டத்தில் முன் பருவத் தொழிற்கல்வி </a:t>
            </a:r>
            <a:r>
              <a:rPr b="1" lang="en-IN" sz="2400" spc="-1" strike="noStrike">
                <a:solidFill>
                  <a:srgbClr val="5fa326"/>
                </a:solidFill>
                <a:latin typeface="Arial Unicode MS"/>
                <a:ea typeface="Arial Unicode MS"/>
              </a:rPr>
              <a:t>(VI  </a:t>
            </a:r>
            <a:r>
              <a:rPr b="1" lang="ta-IN" sz="2400" spc="-1" strike="noStrike">
                <a:solidFill>
                  <a:srgbClr val="5fa326"/>
                </a:solidFill>
                <a:latin typeface="Arial Unicode MS"/>
                <a:cs typeface="Arial Unicode MS"/>
              </a:rPr>
              <a:t>முதல்</a:t>
            </a:r>
            <a:r>
              <a:rPr b="1" lang="en-IN" sz="2400" spc="-1" strike="noStrike">
                <a:solidFill>
                  <a:srgbClr val="5fa326"/>
                </a:solidFill>
                <a:latin typeface="Arial Unicode MS"/>
                <a:ea typeface="Arial Unicode MS"/>
              </a:rPr>
              <a:t> </a:t>
            </a:r>
            <a:r>
              <a:rPr b="1" lang="en-IN" sz="2400" spc="-1" strike="noStrike">
                <a:solidFill>
                  <a:srgbClr val="5fa326"/>
                </a:solidFill>
                <a:latin typeface="Arial Unicode MS"/>
                <a:ea typeface="Arial Unicode MS"/>
              </a:rPr>
              <a:t>VIII  </a:t>
            </a:r>
            <a:r>
              <a:rPr b="1" lang="ta-IN" sz="2400" spc="-1" strike="noStrike">
                <a:solidFill>
                  <a:srgbClr val="5fa326"/>
                </a:solidFill>
                <a:latin typeface="Arial Unicode MS"/>
                <a:cs typeface="Arial Unicode MS"/>
              </a:rPr>
              <a:t>வகுப்புகளுக்கு</a:t>
            </a:r>
            <a:r>
              <a:rPr b="1" lang="en-IN" sz="2400" spc="-1" strike="noStrike">
                <a:solidFill>
                  <a:srgbClr val="5fa326"/>
                </a:solidFill>
                <a:latin typeface="Arial Unicode MS"/>
                <a:ea typeface="Arial Unicode MS"/>
              </a:rPr>
              <a:t> </a:t>
            </a:r>
            <a:r>
              <a:rPr b="1" lang="en-IN" sz="2400" spc="-1" strike="noStrike">
                <a:solidFill>
                  <a:srgbClr val="5fa326"/>
                </a:solidFill>
                <a:latin typeface="Arial Unicode MS"/>
                <a:ea typeface="Arial Unicode MS"/>
              </a:rPr>
              <a:t>)</a:t>
            </a:r>
            <a:r>
              <a:rPr b="1" lang="ta-IN" sz="2400" spc="-1" strike="noStrike">
                <a:solidFill>
                  <a:srgbClr val="5fa326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160" y="10663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VI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VIII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து வகுப்பு மாணவர்களுக்குக் கற்றல் கற்பித்தலோடு வேலைவாய்ப்புசார்ந்த செயல்பாடுகளை இணைத்துக் கற்றுக் கொடுக்கப்படுகிற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வ்வாறு கற்றுக் கொடுப்பதால் மாணவர்கள் வருங்கால வேலைவாய்ப்பைத் தேர்ந்தெடுப்பதற்கு தேவையான திறன்களை பெற்றுக் கொள்வார்கள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ந்தப் பல்திறன் செயல்பாடுகள் மென்திறன் மேம்பாட்டிற்கு உதவுகிறத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304920"/>
            <a:ext cx="81532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: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கல்வி</a:t>
            </a:r>
            <a:r>
              <a:rPr b="1" lang="ta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ஆசிரியரின்</a:t>
            </a:r>
            <a:r>
              <a:rPr b="1" lang="ta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ங்கும்</a:t>
            </a:r>
            <a:r>
              <a:rPr b="1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களும்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ற்பித்தல் மற்றும் பயிற்சிக்கான திட்டமிடல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ல்லூடகங்கள் உட்பட பலதரப்பட்ட கற்பித்தல் மற்றும் பயிற்சி உபகரணங்களைப் பயன்படுத்துதல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ிடம் விழுமியங்கள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 மதிப்புகள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ற்றும் பிறர் நிலையில் தன்னை வைத்துப் பார்த்தல்</a:t>
            </a:r>
            <a:r>
              <a:rPr b="0" lang="en-US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empathy)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ோன்ற பண்புகளை உருவாக்குதல்</a:t>
            </a:r>
            <a:r>
              <a:rPr b="0" lang="en-US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ாதுகாப்பு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நலவாழ்வு மற்றும் சுற்றுச்சூழல் மீது அக்கறையினை ஏற்படுத்துதல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ின் அனைத்துப் பதிவேடுகளையும் பராமரித்தல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வருகைப்பதிவேடு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் முன்னேற்றப்பதிவேடு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வேலைப் பயிற்சி பதிவேடு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திப்பீட்டுப் பதிவேடு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ளவருகைப்பதிவேடு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 பதிவு புத்தகம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ல்வி சாரா சாதனை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</a:t>
            </a: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திவேடு போன்றவை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ெயலாய்வினை மேற்கொள்ளுதல்</a:t>
            </a: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457200" y="914400"/>
            <a:ext cx="7772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ாடப் பொருள் சார்ந்த அறிவு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ெய்முறை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கவல் தொடர்பு திறன்கள் விளக்கக்காட்சி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எண்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மூக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ற்பித்தல் முறை சார்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திப்பீட்டுத் திறன்கள் போன்ற திறன்களை நிரூபித்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ைத் தொடர்ச்சியாக மதிப்பீடு செய்து பின்னூட்டம் வழங்கு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ுய வழிகாட்டல் மூலம் கற்பவர்களாக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ை ஊக்கப்படுத்து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ின் திறன்களைக் கண்டறிந்து அவர்களின் செயல்திறன்களை ஊக்கப்படுத்து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கல்வி பயின்ற மாணவர்கள் வேலைவாய்ப்பைப் பெறுவதற்கான வாய்ப்பினை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யும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யிலிருக்கும்போது வேலைப்பயிற்சி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ற்றும் தொழிற்பயிற்சிப் பெறுவதற்கான வாய்ப்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ினையும் ஏற்படுத்துதல் 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யிற்சி திட்டங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ருத்தரங்கு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நாடு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மனை போன்றவற்றில் பங்கு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ெறச்செய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2286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ாடப் பொருள் சார்ந்த அறிவு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ெய்முறை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கவல் தொடர்பு திறன்கள் விளக்கக்காட்சி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எண்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மூக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ற்பித்தல் முறை சார் திறன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திப்பீட்டுத் திறன்கள் போன்ற திறன்களை நிரூபித்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ைத் தொடர்ச்சியாக மதிப்பீடு செய்து பின்னூட்டம் வழங்கு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ுய வழிகாட்டல் மூலம் கற்பவர்களாக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ை ஊக்கப்படுத்து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ின் திறன்களைக் கண்டறிந்து அவர்களின் செயல்திறன்களை ஊக்கப்படுத்து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கல்வி பயின்ற மாணவர்கள் வேலைவாய்ப்பைப் பெறுவதற்கான வாய்ப்பினை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யும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யிலிருக்கும்போது வேலைப்பயிற்சி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ற்றும் தொழிற்பயிற்சிப் பெறுவதற்கான வாய்ப்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ினையும் ஏற்படுத்துதல் 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யிற்சி திட்டங்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ருத்தரங்கு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நாடுகள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மனை போன்றவற்றில் பங்கு</a:t>
            </a:r>
            <a:r>
              <a:rPr b="0" lang="en-US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ெறச்செய்தல்</a:t>
            </a:r>
            <a:r>
              <a:rPr b="0" lang="en-IN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பயிற்சி பெறுபவர்களுக்காக நடைமுறைப்படுத்தப்பட்ட சட்டம்</a:t>
            </a:r>
            <a:r>
              <a:rPr b="1" lang="en-US" sz="2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1961</a:t>
            </a:r>
            <a:br>
              <a:rPr sz="2200"/>
            </a:br>
            <a:endParaRPr b="0" lang="en-US" sz="2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யிற்சி பெறுபவர்களுக்கான பயிற்சித் திட்டம்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ம்பை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ல்கத்தா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சென்னை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ான்பூர் போன்ற நான்கு இடங்களில் அமைந்த பிராந்திய அமைப்புகளின் மூலம்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(Regional Board of Apprenticeship Tra</a:t>
            </a:r>
            <a:r>
              <a:rPr b="0" lang="en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i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ning – BOAT)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யிற்சி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ழங்கப்படுகிறது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ாநில கல்வித்துறையும் மாவட்டக் கல்வி அலுவலர்களும் மாணவர்களுக்குத் தொழிற்பயிற்சி வழங்க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BOATS </a:t>
            </a:r>
            <a:r>
              <a:rPr b="0" lang="ta-IN" sz="20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நிறுவனத்துடன் ஒப்பந்தம் செய்துள்ளனர்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பயிற்சி பெறுபவர்களின் குறைந்தபட்ச வயது வரம்பு</a:t>
            </a:r>
            <a:endParaRPr b="0" lang="en-US" sz="28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160" y="25146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தொழிற்பயிற்சி பெறுபவர்களுக்கு குறைந்தபட்ச வயது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அபாயகரமான வர்த்தகங்களில் பயிற்சி பெறுபவர்களுக்கு குறைந்தபட்ச வயது 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18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0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கல்வியைத் தொழில்மயமாக்கல்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219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இரு பரிமாணங்களை உள்ளடக்கியது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(i) 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பொது மற்றும் அடிப்படை தொழி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ல்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திறன்களை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10 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ஆண்டு பொதுக்கல்வியில் பெற வாய்ப்பளித்தல்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(ii) 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பொது மற்றும் சிறப்பு 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த்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தொழி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ல்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 திறன்களை மேல்நிலைப் பள்ளிகளி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ல் பெறச்செய்தல் இவற்றின் மூலம் மாணவர்களை வேலை பெறுவதற்கு தகுதி உடையவர்களாக ஆக்கும் செயல் </a:t>
            </a:r>
            <a:r>
              <a:rPr b="0" lang="ta-IN" sz="2000" spc="-1" strike="noStrike">
                <a:solidFill>
                  <a:srgbClr val="b44cb6"/>
                </a:solidFill>
                <a:latin typeface="Arial Unicode MS"/>
                <a:cs typeface="Arial Unicode MS"/>
              </a:rPr>
              <a:t>மேல்நிலைப் பள்ளிகளில் நடைபெறுகிறது</a:t>
            </a:r>
            <a:r>
              <a:rPr b="0" lang="en-US" sz="2000" spc="-1" strike="noStrike">
                <a:solidFill>
                  <a:srgbClr val="b44cb6"/>
                </a:solidFill>
                <a:latin typeface="Arial Unicode MS"/>
                <a:ea typeface="Arial Unicode MS"/>
              </a:rPr>
              <a:t>. (UNESCO, 1985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1752480" y="2438280"/>
            <a:ext cx="4572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1500" spc="-1" strike="noStrike">
                <a:solidFill>
                  <a:srgbClr val="feb80a"/>
                </a:solidFill>
                <a:latin typeface="Arial Unicode MS"/>
                <a:cs typeface="Arial Unicode MS"/>
              </a:rPr>
              <a:t>நன்ற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ுருகுலக்கல்வியில் தொழிற்சார் வாழ்வியல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ிறன்கள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ஒழுக்கத்துடன் கூடிய அறிவு மற்றும் தொழில்திறன்களை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கல்வியின் மூலம்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பெற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லாம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உழைப்பின் மேன்மையைத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 பயிற்சி பெறுவதினாலும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ேவை செய்வதினாலும் கற்றுக் கொண்டனர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ல்திறன்களை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யும்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பெற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ற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னர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்டைய பண்பாட்டைப்  பாதுகாப்பதுடன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்பாடு ஒற்றுமையை மேம்படுத்தும் பொறுப்பினையும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முதாய விழுமியங்களையும் பாதுகாக்க பண்டைய இந்தியக் கல்விமுறை உதவி செய்கிறது</a:t>
            </a:r>
            <a:r>
              <a:rPr b="0" lang="en-IN" sz="1900" spc="-1" strike="noStrike">
                <a:solidFill>
                  <a:srgbClr val="9900cc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533520" y="3808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6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வேத</a:t>
            </a:r>
            <a:r>
              <a:rPr b="0" lang="en-IN" sz="26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கால</a:t>
            </a:r>
            <a:r>
              <a:rPr b="0" lang="ta-IN" sz="26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மற்றும் குருகுல முற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457951"/>
                </a:solidFill>
                <a:latin typeface="Arial Unicode MS"/>
                <a:cs typeface="Arial Unicode MS"/>
              </a:rPr>
              <a:t>இந்தியத்  தத்துவவியலாளர்கள் மற்றும் சிந்தனையாளர்க</a:t>
            </a:r>
            <a:r>
              <a:rPr b="0" lang="en-US" sz="3000" spc="-1" strike="noStrike">
                <a:solidFill>
                  <a:srgbClr val="457951"/>
                </a:solidFill>
                <a:latin typeface="Arial Unicode MS"/>
                <a:cs typeface="Arial Unicode MS"/>
              </a:rPr>
              <a:t>ள்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ுவாமி விவேகானந்தர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1863-1902)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இரவீந்திரநாத் தாகூர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1861-1941)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ஸ்ரீ அரவிந்தோகோஷ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1872-1950)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ோகன்தாஸ் கரம்சந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்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காந்தி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1869-1948)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ீம்ராவ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ராம்ஜி அம்பேத்கர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1891-1956)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ற்றும் சர்வபள்ளி இராதாகிருஷ்ணன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1888-1975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ல்மயமாக்கலின் முக்கியத்துவத்தையும்</a:t>
            </a:r>
            <a:r>
              <a:rPr b="0" lang="en-US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ேவையையும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ிறப்பித்துக் கூ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றினர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ல்மயமாக்கலின் மூலம்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னிமனித வேலைவாய்ப்பினைப் பெறும் திறனையும்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ேசிய உற்பத்தியையும் மேம்படுத்துகி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றது</a:t>
            </a:r>
            <a:r>
              <a:rPr b="0" lang="en-IN" sz="22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99036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ந்தியக் கல்வி கொள்கையின் 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“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ேக்னா கார்டா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”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என்று அழைக்கப்படும் பிரபலமான சார்லஸ் வுட் பிரபுவினால் தயாரிக்கப்பட்ட அறிக்கையில் முறைசார் தொழிற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ல்வியின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ுக்கியத்துவம் குறிப்பிடப்பட்டுள்ளது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பொதுக்கல்வியின் பன்முகத் தன்மையில் தொழிற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கல்வியை அறிமுகப்படுத்துமாறு வுட்ஸ் அறிக்கை வலியுறுத்துகிற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ற்கல்வி நிறுவனம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ற்கல்வி கல்லூரிகளை நிறுவுமாறு பரிந்துரைத்த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244080" y="3049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ea157a"/>
                </a:solidFill>
                <a:latin typeface="Arial Unicode MS"/>
                <a:cs typeface="Arial Unicode MS"/>
              </a:rPr>
              <a:t>தொடர்ச்சி</a:t>
            </a:r>
            <a:r>
              <a:rPr b="0" lang="en-IN" sz="18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ஹண்டர்குழு</a:t>
            </a:r>
            <a:r>
              <a:rPr b="0" lang="en-IN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 </a:t>
            </a:r>
            <a:r>
              <a:rPr b="0" lang="en-IN" sz="3000" spc="-1" strike="noStrike">
                <a:solidFill>
                  <a:srgbClr val="02ae6c"/>
                </a:solidFill>
                <a:latin typeface="Arial Unicode MS"/>
                <a:ea typeface="Arial Unicode MS"/>
              </a:rPr>
              <a:t>(1882) </a:t>
            </a:r>
            <a:r>
              <a:rPr b="0" lang="ta-IN" sz="3000" spc="-1" strike="noStrike">
                <a:solidFill>
                  <a:srgbClr val="02ae6c"/>
                </a:solidFill>
                <a:latin typeface="Arial Unicode MS"/>
                <a:cs typeface="Arial Unicode MS"/>
              </a:rPr>
              <a:t>கல்விமுறை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ாணவர்களை இரு பிரிவுகளாகப் பிரித்த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முதல் பிரிவு பல்கலைக்கழகத்தில் சேர்வதற்கான நுழைவுத் தேர்வுக்குத் தயார்படுத்தவும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இரண்டாம் பிரிவு வேலைசார் செய்முறைப்பயிற்சித் திறனைப் பெறுவதற்கும் பயிற்சியளிக்க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வேண்டும் என பரிந்துரைத்தது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வுட் மற்றும் அபோட் கல்விக்குழு</a:t>
            </a:r>
            <a:r>
              <a:rPr b="0" lang="en-IN" sz="30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</a:t>
            </a:r>
            <a:r>
              <a:rPr b="0" lang="en-IN" sz="30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(1936)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56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a706b8"/>
                </a:solidFill>
                <a:latin typeface="Century Schoolbook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உட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லிமைசார் வேலைகளின் முக்கியத்துவத்தை வலியுறுத்தி சில பரிந்துரைகளை வழங்கியுள்ள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ல் துறையி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ன்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தேவைக்கேற்ப தொழிற்கல்வியை வடிவமைக்க வேண்டும்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எந்தவொரு தொழில் துறையும் முக்கியத்துவமற்றது என எண்ணலாகா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ொழிற்கல்வி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யும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கல்வியின் பிற பிரிவுகளுக்கு இணையானது எனக் கருத வேண்டும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1199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ிறிய தொழிற்சாலைகளில் பணிபுரியும் திறன்சார் பணியாளர்களுக்குத் தேவையான 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பணி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சார்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ந்த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தொழிற்கல்வியை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இலக்கியம் மற்றும் அறிவியல் கல்விக்கு இணையான</a:t>
            </a:r>
            <a:r>
              <a:rPr b="0" lang="en-IN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தாக </a:t>
            </a:r>
            <a:r>
              <a:rPr b="0" lang="ta-IN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பயிற்சியளிக்க வேண்டும்</a:t>
            </a:r>
            <a:r>
              <a:rPr b="0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143000"/>
            <a:ext cx="79246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தொழிற்கல்விக்கு இரண்டு வகையான தொழிற் பள்ளிகள் ஆரம்பிக்கப்பட வேண்டும்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ளையோர் தொழிற் பிரிவு பள்ளி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ூத்தோர் தொழிற்பிரிவு பள்ளி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எட்டாம்வகுப்பு பயின்றபின் மூன்று வருடம் தொழிற்கல்வி வழங்கப்படுவது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-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இளையோர் தொழிற்பிரிவு பள்ளி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800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XI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வகுப்பிற்குப் பின் இரண்டு வருடப் பயிற்சியளித்தல்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en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-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 </a:t>
            </a:r>
            <a:r>
              <a:rPr b="0" lang="ta-IN" sz="2400" spc="-1" strike="noStrike">
                <a:solidFill>
                  <a:srgbClr val="a706b8"/>
                </a:solidFill>
                <a:latin typeface="Arial Unicode MS"/>
                <a:cs typeface="Arial Unicode MS"/>
              </a:rPr>
              <a:t>மூத்தோர் தொழிற்பிரிவு பள்ளி</a:t>
            </a:r>
            <a:r>
              <a:rPr b="0" lang="en-US" sz="2400" spc="-1" strike="noStrike">
                <a:solidFill>
                  <a:srgbClr val="a706b8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6T09:53:26Z</dcterms:created>
  <dc:creator>System12</dc:creator>
  <dc:description/>
  <dc:language>en-US</dc:language>
  <cp:lastModifiedBy>System2</cp:lastModifiedBy>
  <dcterms:modified xsi:type="dcterms:W3CDTF">2019-10-04T06:07:40Z</dcterms:modified>
  <cp:revision>87</cp:revision>
  <dc:subject/>
  <dc:title>கட்டகத்தின் நோக்கங்கள்</dc:title>
</cp:coreProperties>
</file>